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32F-7A29-45E5-9AA2-BB67D7C1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C4A-87CB-45EC-A5CC-EFC72B71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A73-06A3-45AB-B1B3-233E3244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EC2-3CF6-4064-B1C0-53078904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4AA-3C39-495E-BD77-F4ECBC4A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4C7-CAC6-4974-ACED-09CC1E9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E4C-93DD-42D7-BD0F-AE1FDC4E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B9B-9EEA-4A60-BE9F-99A571A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554-6798-451A-AB5C-EDB9A4A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299-7348-4C8A-845C-89BACD9F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09B-3003-44FA-915A-1F03454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76C-A96D-496A-A97C-987CFB9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ECAB-7E4E-4879-AEF3-DE80C563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802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0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3 sentences about each of the following topic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6 in tot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famil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c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0570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5146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58128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5867280" y="16765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457200" y="5029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arqu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724120" cy="2154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4"/>
          <p:cNvSpPr/>
          <p:nvPr/>
        </p:nvSpPr>
        <p:spPr>
          <a:xfrm>
            <a:off x="2590920" y="533412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14600" y="579132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5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7"/>
          <p:cNvSpPr/>
          <p:nvPr/>
        </p:nvSpPr>
        <p:spPr>
          <a:xfrm>
            <a:off x="6095880" y="4724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76320" y="25146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1179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a…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z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audi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r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r un gol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ar un tan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6320" y="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tid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mer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gundo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pate (empatado)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ra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stadio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23880" y="76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66688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124080" y="9144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657600" y="1371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ti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154240" y="31240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play..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(a s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409760" y="37339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throw/ to k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752480" y="428796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849320" y="48769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576520" y="54864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3124080" y="60958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447920" y="1752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152388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248520" y="43434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appl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943600" y="489744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4-10-20T22:13:29Z</dcterms:modified>
  <cp:revision>48</cp:revision>
  <dc:subject/>
  <dc:title>Me llamo _________        Clase 7 IM La fecha es el 4 de noviembre del 2010</dc:title>
</cp:coreProperties>
</file>